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fld id="{6DE5871F-E5A6-4D4B-8A3A-6A0DED45C3A1}" type="slidenum"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недрение корпоративного портала и обеспечение доступа к нему внешних пользователей способствует укреплению деловых связей с заказчиками, партнерами, поставщиками и повышает качество обслуживания заказчиков и партнеров за счет предоставления им дополнительных возможностей и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440" y="4670280"/>
            <a:ext cx="5257800" cy="477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нутренних пользователей (руководителей и сотрудников предприятия) на основе корпоративного информационного портала может быть реализована следующая функциональ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поративная библиотека технико-экономической, технологической, договорной или юридической документ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подачи заявок (например, на расходные материалы, автотранспорт, и т.п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очник контактных реквизитов сотрудников предприя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ртотека существующих и потенциальных контраг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внутренней отчетности для оперативного контроля и управления производством и проектами (отчеты по использованию рабочего времени сотрудников, выполнение календарных планов и графиков проекто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ханизмы совместной работы (форумы по различным проектам или направлениям деятельности предприятия, переговорные сессии для проведения оперативных совещан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жба технической поддержки пользователей компьютеров и оргтехники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ные новостные сервисы с персонифицированной доставкой и системой оповещения получателей (например, оперативные показатели финансовой и производственной деятельности предприятия, сводки деловой информации, корпоративные и региональные новости, прогноз погоды, меню столово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нешних посетителей портала (поставщиков, партнеров и заказчиков) могут быть созданы механизмы, включающие себя информирование о ценах, продуктах, складских запасах, доставке и процессе выполнения заказов, а также решения типа "торговой площадки". Эти решения позволяют наладить совместное планирование и прогнозирование, скоординированное производство и управление дистрибуцией. Таким образом, корпоративный портал обеспечивает интеграцию традиционных учетных систем с приложениями для управления отношениями с клиентами (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условно, это далеко не полный перечень функциональных возможностей, которые могут быть реализованы в рамках корпоративного портала. Следует подчеркнуть, что развитие портала представляет собой динамический процесс, который неразрывно связан с процессом формализации информационных потоков предприятия. Соответственно, отдача от информационного портала будет увеличиваться по мере роста его функционального напол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подсчетам аналитиков, на сегодняшний день инструменты для построения порталов выпускают уже более 200 компаний, причем с каждым днем предложений становится все больше и боль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рошлом году свои новые инициативы в этой области анонсировали такие гиганты рынка прикладного программного обеспечения как SAP, IBM и Microsoft. Они намерены составить конкуренцию компаниям Plumtree Software, DataChannel, Hummingbird и Epicentric, в значительной степени посвятившим себя разработке программного обеспечения для порт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ветственно, существует целый спектр продуктов — от готовых к работе инструментов до конфигурируемых решений, которые для обеспечения интеграции требуют серьезной настрой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корпоративного порта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ерьезный и довольно затратный проект. Стоимость вышеназванных портальных решений в среднем составляет от 100 до 500 долларов за одно рабочее мест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зарубежным данным,  на приобретение программного обеспечения небольшому предприятию придется затратить окол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00 долларов, среднему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т 500 000 до 1 миллиона долларов. Дополнительные затраты на сооружение порталов, согласно результатам опросов, составляют 100-300% от стоимости программного обесп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рынок портальных проектов сейчас находится в стадии формирования. Положительных и отрицательных примеров, на которые могли бы ориентироваться заказчики, пока совсем немного. Столь скромная практика отчасти объясняется невысоким уровнем автоматизации большинства российских компаний, которые еще не завершили первый «виток», связанный с построение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 и хранилищ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этой причине важно заранее определить базовые принцип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ации и проанализировать возможные технологические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ительство и внедрение корпоративного портала практически всегда сопряжено с рядом типовых проблем, обусловленных существующей на предприятии информационной средо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в организации нескольких операционных систем вызывает необходимость проведения кросс-платформенной интег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рые и "унаследованные" базы данных, построенные на базе архитектуры файлового сервера, не всегда могут быть интегрированы в порт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ложения, прежде всего написанные сторонними разработчиками и небольшими фирмами, могут не име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нтерфейсов и (или) документированных API-интерфейсов, что затрудняет их интегра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702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настоящему моменту де-факто сложились следующие базовые принципы интеграции корпоративных данных и приложений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техноло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зуализация информации при помощи Web-браузера, благодаря чему исчезает необходимость в установке и поддержке "тяжелых" клиентских при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штабируемость, переносимость и открытость создаваемых решений, которые достигаются благодаря использованию XML/XSL и Java. Хранение и передача данных происходит с помощью языка XML, специально созданного для организации взаимодействия с различными приложениями. Формат данных в XML не зависит от способа его дальнейшей визуализации. За это отвечают хранимые отдельно файлы таблицы стилей XSL, которые преобразуют файлы XML для их представления в виде Web-стран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входа в портал из различных систем, в том числе территориально удал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ие безопасность и защита информации посредством централизованного доступа и разделения прав пользователей на стороне источников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ани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ликон Пр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едставляет в качестве технологической платформы для разработки прикладны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шений свой новый продукт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WA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lic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GWA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едставляет собой инструментальную прослойку, которая объединяет известные Internet-технологии в единую цепочку на основе использования открытых стандартов. Предлагаемый продукт ориентирован на Заказчиков, заинтересованных в интеграции данных и приложений на основе современны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й. Его применение позволяет повысить оперативность управления предприятием при сохранении надежности и конфиденциальности, присущих традиционным решениям на основе СУБ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626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технологи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GWA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ает следующие преимущ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нтеграции данных и приложений независимо от размещения и форматов хранения информации. При этом в качестве источников данных, помимо базы данных системы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 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©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могут использоваться другие локальные базы данных, удаленные оперативные источники XML-данных и неоперативные источники данных в виде XML-фай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амическая сборк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траниц путем интерпретации гетерогенных данных. Эти данные могут представлять собой статический HTML-документ, шаблон на языке XML (содержащий, например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апрос к базе данных), документ XSL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шаблоном преобразования, программный код на языке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ли поток байтов (который может интерпретироваться, как рисунок, звук, мультимеди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сная интеграция с инструментарием 39-й версии системы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 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©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торая позволяет эффективно применять имеющиеся в системе механизмы разработки ресурсов, администрирования прав пользователей и аудита событий в базе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ие безопасности и защита информации за счет эффективного управления потоком соединений и использования механизмов администрирования прав пользователей на стороне источников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поративный информационный портал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pri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 является мощным инструментом интеграции информационных ресурсов, который многократно повышает эффективность управления предприятием. Портал представляет собой совокупность технологий и программных средств, позволяющих компаниям "расконсервировать" информацию, которая возникает и накапливается как внутри, так и вне их границ. Одновременно, портал предоставляет каждому пользователю персонифицированное "окно" для просмотра всей информации, необходимой ему для принятия обоснованных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технологической точки зрения портал представляет собой совокуп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нтерфейсов, которые обеспечивают единообразный доступ к корпоративным данным и программам через локальные и глобальные сети. В качестве терминала может быть использовано любое устройство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браузером (стационарный или переносной компьютер), подключенное к корпоративной сети либо находящееся далеко за ее пределами. Порталы позволяют организовывать дополнительные сервисы, основанные на доступе к разнородным данным и приложениям с од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транички. При этом пользователь может и не знать, с какими приложениями он работает, где и в каком формате хранятся предоставляемые ему данные и с помощью каких операционных систем они обрабатыв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440" y="4670280"/>
            <a:ext cx="5257800" cy="4702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технологи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GWA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полной мере отвечает всем вышеназванным принципам и может использоваться в качестве инструментария для построения корпоративного информационного пор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примера рассмотрим систему подачи заявок на расходные материалы, реализованную на основе техноло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WA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 качестве источника данных используется база данных системы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 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©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ользователей, участвующих в формировании и утверждении заявок, реализованы несложные с функциональной точки з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нтерфейсы. Перечень доступных для заказа расходных материалов формируется на основе информации из справочника ТМЦ. Сформированные заявки хранятся в одноименной таблице БД. Пользователи в статусе руководителей структурных подразделений наделяются доступом к функции утверждения заявок своих сотрудников. При этом права доступа определяются при помощи стандартных механизмов, реализованных в модуле «Администратор». Такой подход не требует инсталляции клиентских компонентов системы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 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©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 рабочих местах всех сотрудников предприятия и, соответственно, не требует покупки клиентских лиценз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ьзователи в статусе работников отдела МТО обладают возможностью сформировать сводный заказ на приобретение расходных материалов. При этом они могут использовать хорошо структурированн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тчет, реализованный стандартными средствами модуля «Анализатор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. Я готов ответить на Ваши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ительство корпоративных порталов в настоящее время является одним из наиболее перспективных направлений в области информационных технологий. Так, аналитики  компан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 Group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читают, что к 2003 году 60% компаний из Fortune 500 будут использовать корпоративный портал в качестве инструмента поддержки принятия решений, совершенствования информационных потоков и развития электронной коммерции типа B2B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результатам опросов руководителе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дразделений на сегодняшний день почти 60% крупнейших предприятий России из числа участников рейтинг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100 одной из своих первоочередных задач считают создание корпоративного информационного пор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дрение корпоративного портала обеспечивает компании серьезные конкурентные преимущества. При этом, по оценкам компан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mtre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ware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орма возврата инвестиций от внедрения корпоративного портала в среднем составляет 145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аспекты, определяющие экономические и организационные эффекты от построения портала, перечислены на этом слайде. Рассмотрим их более подроб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ши сотрудники ежедневно получают информацию из различных источников, таких как корпоративные информационные системы, периодические печатные издания, внутренние нормативные документы, деловая переписка, электронная почта, техническая документация и ресурсы сет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я корпоративный портал, Вы и Ваши специалисты сможете получать необходимую информацию в предельно сжатые сроки непосредственно со своего рабочего места, независимо от его географического расположения и времени суток. Использование современных технологий позволит организовать целевую доставку информации и своевременное оповещение ее получателей, обеспечив при этом необходимый уровень конфиденциа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тал играет роль центрального информационного ресурса для руководства и сотрудников компании, ее заказчиков, поставщиков, дистрибьюторов, партнеров и акционе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уководители  и сотрудни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лучают интегрированную внутреннюю и внешнюю информацию и доступ к корпоративным прилож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азчи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лучают информацию о выпускаемой компанией продукции, новые инструменты работы с ней. Анализ действий заказчиков при работе с порталом может помочь компании принимать более взвешенные маркетинговые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тавщи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лучают возможность повысить эффективность взаимодействия с компанией, оптимизировать объемы и время поставок. Таким образом, портал становится инструментом для планирования и прогнозирования расходования запасов и постав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ционеры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портала получают инструмент контроля над ключевыми параметрами деятельности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артнер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лучают более эффективный инструмент по обмену информацией. Через портал они имеют доступ к маркетинговой и технической документации, планам выпуска продукции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корпоративного портала позволит в полной мере применить управленческую технологию управления знаниями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, которая во всем мире признана наиболее эффективной формой взаимодействия сотрудников. Любой работник достаточно легко сможет найти и использовать различные отчеты, сводки, статьи, библиографические справочники, новости, методики, регламенты, аналитические обзоры и исследования, вне зависимости от того, где и кем они были созданы. Накопление и сортировка всей этой информации позволит создать и использовать "базу знаний" Вашей компании, охватывающую большую часть корпоративн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нтеграция корпоративного портала с другими компонентами информационной системы предприятия (финансово-учетные и сбытовые программы, хранилища данных, электронный документооборот и т.п.) открывает новые возможности анализа деловой информации, сегментирования рынка и позиционирования, планирования и прогнозирования, выполнения ряда иных функций. Соответственно, менеджеры Вашей компании смогут принимать более эффективные решения, учитывающие все нюансы конкретной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тал – это интегрированное приложение, которое можно достаточно быстро внедрить и легко поддерживать, затрачивая при этом сравнительно скромные ресурсы по сравнению с системами со сходными функциями, но построенными на основе других концепций. Все это снижает издержки и повышает отдачу от вложений в информационную систему предприятия. Использование для визуализации информации "тонкого клиента" (обыч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браузера) позволяет экономить на обучении персонала и, одновременно, дает возможность не устанавливать клиентские приложения на множестве компьютеров. Сокращение затрат на приобретение и обслуживание клиентского ПО и оборудования – один из основных ресурсов снижения издержек при использовании корпоративного портала. Также важно упомянуть о минимизации затрат на аренду Internet-канала за счет того, что наиболее значительная часть информации, необходимой для пользователей портала, размещается в корпоративной се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E979-B2F3-4071-A280-BEFC2CA9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5FDD-66E0-45AA-B417-DEE62F9C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51ED-B51D-48F2-96C2-574E83EF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4F00-B780-4230-A6A1-40AC8898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5ED4-68BF-4DCF-9C03-5B410137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D253-DD18-4EC0-BBF9-983A67D8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144B-5393-4A6F-AAF1-614D5325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8ECF-C91C-407D-B529-5A349948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3A2C-7A6A-4D3E-8404-E2699608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10A8-CA04-4369-B9E1-0D00C5A7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4D65-BD93-45F0-A5DF-EDD414B1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3E3B-778E-4C45-8DF1-F5AEEED8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A223-1A37-411F-BAD4-76625AF5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5C3D-FF99-4A13-88C0-B7A5C43F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DD85-F30C-421F-8107-DB0EDF43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470A-AD22-4544-9BD7-DCAF952F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9FCF-59DA-4D27-9948-14DDB010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DC7C-ACA9-4D6A-8693-0BC03AA8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205A-93B6-4BEE-98D0-3EC74D3C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0790-9BA5-40AC-ADE8-03017A55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1940-6630-4063-A068-3CA0CB0B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8B75-530B-495A-8ED1-675E3632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F318-CBA8-48C7-B029-3AFD8042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8CE0-C444-420B-A823-EB9FA4EF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85400" cy="6173640"/>
            <a:chOff x="0" y="0"/>
            <a:chExt cx="918540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643800" cy="6173640"/>
            </a:xfrm>
            <a:custGeom>
              <a:avLst/>
              <a:gdLst/>
              <a:ahLst/>
              <a:rect l="l" t="t" r="r" b="b"/>
              <a:pathLst>
                <a:path w="4185" h="3889">
                  <a:moveTo>
                    <a:pt x="4184" y="3418"/>
                  </a:moveTo>
                  <a:lnTo>
                    <a:pt x="495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676" y="3888"/>
                  </a:lnTo>
                  <a:lnTo>
                    <a:pt x="4184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479600" y="0"/>
              <a:ext cx="5835600" cy="5116680"/>
            </a:xfrm>
            <a:custGeom>
              <a:avLst/>
              <a:gdLst/>
              <a:ahLst/>
              <a:rect l="l" t="t" r="r" b="b"/>
              <a:pathLst>
                <a:path w="3676" h="3223">
                  <a:moveTo>
                    <a:pt x="400" y="0"/>
                  </a:moveTo>
                  <a:lnTo>
                    <a:pt x="3675" y="3036"/>
                  </a:lnTo>
                  <a:lnTo>
                    <a:pt x="3474" y="3222"/>
                  </a:lnTo>
                  <a:lnTo>
                    <a:pt x="0" y="0"/>
                  </a:lnTo>
                  <a:lnTo>
                    <a:pt x="40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3097" h="2556">
                  <a:moveTo>
                    <a:pt x="682" y="0"/>
                  </a:moveTo>
                  <a:lnTo>
                    <a:pt x="3096" y="2238"/>
                  </a:lnTo>
                  <a:lnTo>
                    <a:pt x="2754" y="2555"/>
                  </a:lnTo>
                  <a:lnTo>
                    <a:pt x="0" y="0"/>
                  </a:lnTo>
                  <a:lnTo>
                    <a:pt x="682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254560" y="0"/>
              <a:ext cx="3930840" cy="3367080"/>
            </a:xfrm>
            <a:custGeom>
              <a:avLst/>
              <a:gdLst/>
              <a:ahLst/>
              <a:rect l="l" t="t" r="r" b="b"/>
              <a:pathLst>
                <a:path w="2476" h="2121">
                  <a:moveTo>
                    <a:pt x="0" y="0"/>
                  </a:moveTo>
                  <a:lnTo>
                    <a:pt x="2286" y="2120"/>
                  </a:lnTo>
                  <a:lnTo>
                    <a:pt x="2475" y="1945"/>
                  </a:lnTo>
                  <a:lnTo>
                    <a:pt x="376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D38B-23EE-447E-9545-44581C112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85400" cy="6173640"/>
            <a:chOff x="0" y="0"/>
            <a:chExt cx="918540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643800" cy="6173640"/>
            </a:xfrm>
            <a:custGeom>
              <a:avLst/>
              <a:gdLst/>
              <a:ahLst/>
              <a:rect l="l" t="t" r="r" b="b"/>
              <a:pathLst>
                <a:path w="4185" h="3889">
                  <a:moveTo>
                    <a:pt x="4184" y="3418"/>
                  </a:moveTo>
                  <a:lnTo>
                    <a:pt x="495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676" y="3888"/>
                  </a:lnTo>
                  <a:lnTo>
                    <a:pt x="4184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79600" y="0"/>
              <a:ext cx="5835600" cy="5116680"/>
            </a:xfrm>
            <a:custGeom>
              <a:avLst/>
              <a:gdLst/>
              <a:ahLst/>
              <a:rect l="l" t="t" r="r" b="b"/>
              <a:pathLst>
                <a:path w="3676" h="3223">
                  <a:moveTo>
                    <a:pt x="400" y="0"/>
                  </a:moveTo>
                  <a:lnTo>
                    <a:pt x="3675" y="3036"/>
                  </a:lnTo>
                  <a:lnTo>
                    <a:pt x="3474" y="3222"/>
                  </a:lnTo>
                  <a:lnTo>
                    <a:pt x="0" y="0"/>
                  </a:lnTo>
                  <a:lnTo>
                    <a:pt x="40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3097" h="2556">
                  <a:moveTo>
                    <a:pt x="682" y="0"/>
                  </a:moveTo>
                  <a:lnTo>
                    <a:pt x="3096" y="2238"/>
                  </a:lnTo>
                  <a:lnTo>
                    <a:pt x="2754" y="2555"/>
                  </a:lnTo>
                  <a:lnTo>
                    <a:pt x="0" y="0"/>
                  </a:lnTo>
                  <a:lnTo>
                    <a:pt x="682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54560" y="0"/>
              <a:ext cx="3930840" cy="3367080"/>
            </a:xfrm>
            <a:custGeom>
              <a:avLst/>
              <a:gdLst/>
              <a:ahLst/>
              <a:rect l="l" t="t" r="r" b="b"/>
              <a:pathLst>
                <a:path w="2476" h="2121">
                  <a:moveTo>
                    <a:pt x="0" y="0"/>
                  </a:moveTo>
                  <a:lnTo>
                    <a:pt x="2286" y="2120"/>
                  </a:lnTo>
                  <a:lnTo>
                    <a:pt x="2475" y="1945"/>
                  </a:lnTo>
                  <a:lnTo>
                    <a:pt x="376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142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3E79-FFCE-44C7-BB1E-268FD9A08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00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9885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ПОСТРО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КОРПОРАТИВ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ИНФОРМАЦИОННОГО ПОРТ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ПРЕД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2280" y="6248520"/>
          <a:ext cx="281952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248520"/>
                    <a:ext cx="28195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ЕДИНАЯ ПЛАТФОРМ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ДЛЯ ЭЛЕКТРОННОГО БИЗНЕСА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9601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2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is"/>
              </a:rPr>
              <a:t>предоставление дополнительных услу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2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is"/>
              </a:rPr>
              <a:t>улучшение качества обслу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2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is"/>
              </a:rPr>
              <a:t>увеличение скорости выполнения заказ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2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is"/>
              </a:rPr>
              <a:t>укрепление деловых связей с заказчиками и поставщи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934320" y="1600200"/>
          <a:ext cx="2835000" cy="28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600200"/>
                    <a:ext cx="2835000" cy="28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9220320" y="624852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uturis"/>
              </a:rPr>
              <a:t>ФУНКЦИОНАЛЬНОЕ НАПОЛНЕНИЕ КОРПОРАТИВНОГО ПОРТАЛА</a:t>
            </a:r>
            <a:endParaRPr b="0" lang="en-US" sz="6000" spc="-1" strike="noStrike">
              <a:solidFill>
                <a:srgbClr val="6600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ДЛЯ СОТРУДНИКОВ ПРЕДПРИЯТИЯ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9296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корпоративная библиотека финансовой, технологической, договорной, юридической докум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система подачи заявок (на расходные материалы, автотранспорт,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справочник контактных реквизитов сотрудников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картотека существующих и потенциальных контраг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формы внутренней отчетности для оперативного контроля и управления производством и проектами (отчеты по использованию рабочего времени, исполнение календарных планов и графиков проек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механизмы совместной работы (форумы по различным проектам или направлениям деятельности предприятия, переговорные сессии для проведения оперативных совещ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служба технической поддержки пользователей (</a:t>
            </a: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Help</a:t>
            </a: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Desk</a:t>
            </a: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различные новостные сервисы с персонифицированной доставкой (оперативные показатели финансовой и производственной деятельности предприятия, сводки деловой информации, корпоративные и региональные новости, прогноз погоды, меню столов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9525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ДЛЯ ВНЕШНИХ ПОСЕТИТЕЛЕЙ </a:t>
            </a:r>
            <a:r>
              <a:rPr b="1" lang="en-US" sz="3000" spc="-1" strike="noStrike">
                <a:solidFill>
                  <a:srgbClr val="ffffff"/>
                </a:solidFill>
                <a:latin typeface="Futuris"/>
              </a:rPr>
              <a:t>ПОСТАВЩИКОВ, ПАРТНЕРОВ И ЗАКАЗЧИКОВ</a:t>
            </a:r>
            <a:endParaRPr b="0" lang="en-US" sz="3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нформация о ценах, продуктах и складских запа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истема подачи заявок и резервирования тов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нформация о состоянии зак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нформация о доставке выполненных зак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нтерактивные торговые площ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52280" y="4800240"/>
            <a:ext cx="9601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Futuris"/>
              </a:rPr>
              <a:t>УПРАВЛЕНИЕ ОТНОШЕНИЯМИ С КЛИЕНТ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Futuris"/>
              </a:rPr>
              <a:t>Customer Relationship Management </a:t>
            </a:r>
            <a:r>
              <a:rPr b="1" lang="ru-RU" sz="3200" spc="-1" strike="noStrike">
                <a:solidFill>
                  <a:srgbClr val="ff3300"/>
                </a:solidFill>
                <a:latin typeface="Futuris"/>
              </a:rPr>
              <a:t>–</a:t>
            </a:r>
            <a:r>
              <a:rPr b="1" lang="en-US" sz="3200" spc="-1" strike="noStrike">
                <a:solidFill>
                  <a:srgbClr val="ff3300"/>
                </a:solidFill>
                <a:latin typeface="Futuris"/>
              </a:rPr>
              <a:t> C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9448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ИНСТРУМЕНТАРИЙ ДЛЯ СОЗДАНИЯ КОРПОРАТИВНЫХ ПОРТАЛОВ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Corporate Portal (Plumtree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Brio.Portal (Brio Technolog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DataChannel Server (Data Chann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EIP (Hummingbi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Epicentric Foundation Server (Epicentr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mySAP Enterprise Portals (S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Oracle9iAS Portal (Ora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WebSphere Portal (IB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Futuris"/>
              </a:rPr>
              <a:t>РАСХОДЫ НА ПОСТРОЕНИЕ КОРПОРАТИВНОГО ПОРТАЛА</a:t>
            </a:r>
            <a:endParaRPr b="0" lang="en-US" sz="3800" spc="-1" strike="noStrike">
              <a:solidFill>
                <a:srgbClr val="6600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52480" y="1600200"/>
          <a:ext cx="6400800" cy="39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6400800" cy="39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2209680" y="562284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По данным Delphi Group, 2001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ТИПОВЫЕ ПРОБЛЕМЫ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Futuris"/>
              </a:rPr>
              <a:t>ОБУСЛОВЛЕННЫЕ СУЩЕСТВУЮЩЕЙ НА ПРЕДПРИЯТИИ ИНФОРМАЦИОННОЙ СРЕДОЙ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90676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эксплуатация нескольких операционных систем вызывает необходимость проведения кросс-платформной интег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старые и унаследованные базы данных, построенные на базе архитектуры файлового сервера, не всегда могут быть интегрированы в пор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приложения, прежде всего написанные сторонними разработчиками и небольшими фирмами, могут не иметь </a:t>
            </a: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Web</a:t>
            </a: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-интерфейсов и (или) документированных API-интерфейсов, что затрудняет их интегр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uturis"/>
              </a:rPr>
              <a:t>БАЗОВЫЕ ПРИНЦИПЫ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Futuris"/>
              </a:rPr>
              <a:t>ИНТЕГРАЦИИ КОРПОРАТИВНЫХ ДАННЫХ И ПРИЛОЖЕНИЙ НА ОСНОВЕ </a:t>
            </a:r>
            <a:r>
              <a:rPr b="1" lang="en-US" sz="2800" spc="-1" strike="noStrike">
                <a:solidFill>
                  <a:srgbClr val="ffffff"/>
                </a:solidFill>
                <a:latin typeface="Futuris"/>
              </a:rPr>
              <a:t>WEB</a:t>
            </a:r>
            <a:r>
              <a:rPr b="1" lang="ru-RU" sz="2800" spc="-1" strike="noStrike">
                <a:solidFill>
                  <a:srgbClr val="ffffff"/>
                </a:solidFill>
                <a:latin typeface="Futuris"/>
              </a:rPr>
              <a:t>-ТЕХНОЛОГИЙ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визуализация информации при помощи Web-брауз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масштабируемость, переносимость и открытость создаваемых решений, которые достигаются благодаря использованию XML/XSL и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возможность входа в портал из различных систем, в том числе территориально удал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обеспечение безопасности и защиты информации посредством централизованного доступа и разделения прав пользователей на стороне источников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04560" y="99072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Futuris"/>
              </a:rPr>
              <a:t>GELICON</a:t>
            </a:r>
            <a:r>
              <a:rPr b="1" lang="ru-RU" sz="46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Futuris"/>
              </a:rPr>
              <a:t>WEB</a:t>
            </a:r>
            <a:r>
              <a:rPr b="1" lang="ru-RU" sz="46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Futuris"/>
              </a:rPr>
              <a:t>APPLICATION</a:t>
            </a:r>
            <a:r>
              <a:rPr b="1" lang="ru-RU" sz="46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Futuris"/>
              </a:rPr>
              <a:t>SERVER (GWAS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uturis"/>
              </a:rPr>
              <a:t>КАК ТЕХНОЛОГИЧЕСКАЯ ПЛАТФ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uturis"/>
              </a:rPr>
              <a:t>ДЛЯ РАЗРАБО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uturis"/>
              </a:rPr>
              <a:t>ПРИКЛАДНЫХ </a:t>
            </a:r>
            <a:r>
              <a:rPr b="1" lang="en-AU" sz="3200" spc="-1" strike="noStrike">
                <a:solidFill>
                  <a:srgbClr val="000000"/>
                </a:solidFill>
                <a:latin typeface="Futuris"/>
              </a:rPr>
              <a:t>INTERNE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Futuris"/>
              </a:rPr>
              <a:t>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92962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uturis"/>
              </a:rPr>
              <a:t>ТЕХНОЛОГИЧЕСКИЕ ПРЕИМУЩЕСТВА </a:t>
            </a:r>
            <a:r>
              <a:rPr b="1" lang="en-US" sz="3200" spc="-1" strike="noStrike">
                <a:solidFill>
                  <a:srgbClr val="ffffff"/>
                </a:solidFill>
                <a:latin typeface="Futuris"/>
              </a:rPr>
              <a:t>GWAS</a:t>
            </a:r>
            <a:endParaRPr b="0" lang="en-US" sz="32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944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возможность интеграции данных и приложений независимо от размещения и форматов хранения информации (локальные базы данных, удаленные оперативные источники XML-данных и неоперативные источники данных в виде XML-файл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динамическая сборка </a:t>
            </a: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Web</a:t>
            </a: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-страниц путем интерпретации гетерогенных данных (статические HTML-документы, шаблоны на языке XML, документы XSLT с шаблоном преобразования, программный код на </a:t>
            </a:r>
            <a:r>
              <a:rPr b="1" lang="en-AU" sz="2000" spc="-1" strike="noStrike">
                <a:solidFill>
                  <a:srgbClr val="000000"/>
                </a:solidFill>
                <a:latin typeface="Futuris"/>
              </a:rPr>
              <a:t>Java</a:t>
            </a: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 или поток байтов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интеграция с инструментарием системы Капитал </a:t>
            </a: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CSE</a:t>
            </a:r>
            <a:r>
              <a:rPr b="1" lang="ru-RU" sz="2000" spc="-1" strike="noStrike" baseline="30000">
                <a:solidFill>
                  <a:srgbClr val="000000"/>
                </a:solidFill>
                <a:latin typeface="Futuris"/>
              </a:rPr>
              <a:t>©</a:t>
            </a: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 вер. 3.0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эффективное управление потоком соединений и использование механизмов администрирования прав пользователей на стороне источников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42004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Futuris"/>
              </a:rPr>
              <a:t>Корпоративный информационный портал (</a:t>
            </a:r>
            <a:r>
              <a:rPr b="1" lang="en-US" sz="2600" spc="-1" strike="noStrike">
                <a:solidFill>
                  <a:srgbClr val="ffffff"/>
                </a:solidFill>
                <a:latin typeface="Futuris"/>
              </a:rPr>
              <a:t>Enterprise</a:t>
            </a:r>
            <a:r>
              <a:rPr b="1" lang="ru-RU" sz="2600" spc="-1" strike="noStrike">
                <a:solidFill>
                  <a:srgbClr val="ffffff"/>
                </a:solidFill>
                <a:latin typeface="Futuris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Futuris"/>
              </a:rPr>
              <a:t>Information</a:t>
            </a:r>
            <a:r>
              <a:rPr b="1" lang="ru-RU" sz="2600" spc="-1" strike="noStrike">
                <a:solidFill>
                  <a:srgbClr val="ffffff"/>
                </a:solidFill>
                <a:latin typeface="Futuris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Futuris"/>
              </a:rPr>
              <a:t>Portal</a:t>
            </a:r>
            <a:r>
              <a:rPr b="1" lang="ru-RU" sz="2600" spc="-1" strike="noStrike">
                <a:solidFill>
                  <a:srgbClr val="ffffff"/>
                </a:solidFill>
                <a:latin typeface="Futuris"/>
              </a:rPr>
              <a:t> – </a:t>
            </a:r>
            <a:r>
              <a:rPr b="1" lang="en-US" sz="2600" spc="-1" strike="noStrike">
                <a:solidFill>
                  <a:srgbClr val="ffffff"/>
                </a:solidFill>
                <a:latin typeface="Futuris"/>
              </a:rPr>
              <a:t>EIP</a:t>
            </a:r>
            <a:r>
              <a:rPr b="1" lang="ru-RU" sz="2600" spc="-1" strike="noStrike">
                <a:solidFill>
                  <a:srgbClr val="ffffff"/>
                </a:solidFill>
                <a:latin typeface="Futuris"/>
              </a:rPr>
              <a:t>) является мощным инструментом интеграции информационных ресурсов, который многократно повышает эффективность управления предприятием</a:t>
            </a:r>
            <a:endParaRPr b="0" lang="en-US" sz="2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3200400"/>
            <a:ext cx="8420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uturis"/>
              </a:rPr>
              <a:t>С технологической точки зрения портал представляет собой совокупность </a:t>
            </a:r>
            <a:r>
              <a:rPr b="1" lang="en-US" sz="2600" spc="-1" strike="noStrike">
                <a:solidFill>
                  <a:srgbClr val="000000"/>
                </a:solidFill>
                <a:latin typeface="Futuris"/>
              </a:rPr>
              <a:t>Web</a:t>
            </a:r>
            <a:r>
              <a:rPr b="1" lang="ru-RU" sz="2600" spc="-1" strike="noStrike">
                <a:solidFill>
                  <a:srgbClr val="000000"/>
                </a:solidFill>
                <a:latin typeface="Futuris"/>
              </a:rPr>
              <a:t>-интерфейсов, которые обеспечивают единообразный доступ к корпоративным данным и программам через локальные и глобальные се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6012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Futuris"/>
              </a:rPr>
              <a:t>Шишляев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Futuris"/>
              </a:rPr>
              <a:t>Виктор Валерьевич</a:t>
            </a:r>
            <a:endParaRPr b="0" lang="en-US" sz="6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220932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uturis"/>
              </a:rPr>
              <a:t>Генеральный директ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uturis"/>
              </a:rPr>
              <a:t>ЗАО Геликон Пр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4191120"/>
            <a:ext cx="92199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uturis"/>
              </a:rPr>
              <a:t>тел.: (3422) 103-101, 103-178, 103-76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uturis"/>
              </a:rPr>
              <a:t>E-mail: svv@gelicon.perm.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is"/>
              </a:rPr>
              <a:t>www. </a:t>
            </a:r>
            <a:r>
              <a:rPr b="1" lang="ru-RU" sz="3600" spc="-1" strike="noStrike">
                <a:solidFill>
                  <a:srgbClr val="000000"/>
                </a:solidFill>
                <a:latin typeface="Futuris"/>
              </a:rPr>
              <a:t>gelicon.perm.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9829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is"/>
              </a:rPr>
              <a:t>ПЕРСПЕКТИВЫ КОРПОРАТИВНЫХ ПОРТАЛОВ</a:t>
            </a:r>
            <a:endParaRPr b="0" lang="en-US" sz="32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uturis"/>
              </a:rPr>
              <a:t>по оценкам компании Meta Group к 2003 г. 60% компаний из Fortune 500 будут использовать корпоративный портал в качестве инструмента поддержки принятия решений, совершенствования информационных потоков и развития электронной коммерции типа B2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uturis"/>
              </a:rPr>
              <a:t>по результатам опросов руководителей </a:t>
            </a:r>
            <a:r>
              <a:rPr b="1" lang="en-US" sz="2200" spc="-1" strike="noStrike">
                <a:solidFill>
                  <a:srgbClr val="000000"/>
                </a:solidFill>
                <a:latin typeface="Futuris"/>
              </a:rPr>
              <a:t>IT</a:t>
            </a:r>
            <a:r>
              <a:rPr b="1" lang="ru-RU" sz="2200" spc="-1" strike="noStrike">
                <a:solidFill>
                  <a:srgbClr val="000000"/>
                </a:solidFill>
                <a:latin typeface="Futuris"/>
              </a:rPr>
              <a:t>-подразделений на сегодняшний день почти 60% крупнейших предприятий России из числа участников рейтинга </a:t>
            </a:r>
            <a:r>
              <a:rPr b="1" lang="en-US" sz="2200" spc="-1" strike="noStrike">
                <a:solidFill>
                  <a:srgbClr val="000000"/>
                </a:solidFill>
                <a:latin typeface="Futuris"/>
              </a:rPr>
              <a:t>Top</a:t>
            </a:r>
            <a:r>
              <a:rPr b="1" lang="ru-RU" sz="2200" spc="-1" strike="noStrike">
                <a:solidFill>
                  <a:srgbClr val="000000"/>
                </a:solidFill>
                <a:latin typeface="Futuris"/>
              </a:rPr>
              <a:t>-100 одной из своих первоочередных задач считают создание корпоративного информационного порт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752480"/>
            <a:ext cx="94489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ts val="2798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Повышение эффективности работы сотруд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798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1" action="ppaction://hlinksldjump"/>
              </a:rPr>
              <a:t>Улучшение корпоративного взаимо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798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Управление корпоративными знан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798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тимизация процесса 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798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тимизация инвестиций в информационные ресур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798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Единая платформа для ведения электронного бизне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9448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ПРЕИМУЩЕСТВА ОТ СОЗДАНИЯ КОРПОРАТИВНОГО ПОРТАЛА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296280" y="624852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3794"/>
                </a:moveTo>
                <a:lnTo>
                  <a:pt x="17815" y="10800"/>
                </a:lnTo>
                <a:lnTo>
                  <a:pt x="380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92199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ПОВЫШЕНИЕ ЭФФЕКТИВНОСТИ РАБОТЫ СОТРУДНИКОВ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0" y="2133720"/>
          <a:ext cx="2085840" cy="29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133720"/>
                    <a:ext cx="2085840" cy="29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2971800"/>
            <a:ext cx="533412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корпоративные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нормативные доку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деловая переп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электронная почта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техническая докумен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ресурсы сети </a:t>
            </a:r>
            <a:r>
              <a:rPr b="1" lang="en-AU" sz="2400" spc="-1" strike="noStrike">
                <a:solidFill>
                  <a:srgbClr val="000000"/>
                </a:solidFill>
                <a:latin typeface="Futuris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296280" y="624852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09480" y="1981080"/>
            <a:ext cx="60962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УНИФИЦИРОВАННЫЙ ДОСТУ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К ИНФОРМАЦИОННЫМ РЕСУРС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220320" y="624852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9601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УЛУЧШЕНИЕ</a:t>
            </a:r>
            <a:br>
              <a:rPr sz="3800"/>
            </a:b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КОРПОРАТИВНОГО ВЗАИМОДЕЙСТВИЯ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038480" y="3276720"/>
          <a:ext cx="2210040" cy="18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276720"/>
                    <a:ext cx="2210040" cy="18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" name=""/>
          <p:cNvGrpSpPr/>
          <p:nvPr/>
        </p:nvGrpSpPr>
        <p:grpSpPr>
          <a:xfrm>
            <a:off x="2104200" y="3809880"/>
            <a:ext cx="2006640" cy="2364840"/>
            <a:chOff x="2104200" y="3809880"/>
            <a:chExt cx="2006640" cy="2364840"/>
          </a:xfrm>
        </p:grpSpPr>
        <p:graphicFrame>
          <p:nvGraphicFramePr>
            <p:cNvPr id="130" name=""/>
            <p:cNvGraphicFramePr/>
            <p:nvPr/>
          </p:nvGraphicFramePr>
          <p:xfrm>
            <a:off x="2361960" y="3809880"/>
            <a:ext cx="1680840" cy="1981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61960" y="3809880"/>
                      <a:ext cx="168084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" name=""/>
            <p:cNvSpPr/>
            <p:nvPr/>
          </p:nvSpPr>
          <p:spPr>
            <a:xfrm>
              <a:off x="2104200" y="5715000"/>
              <a:ext cx="200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is"/>
                </a:rPr>
                <a:t>акционер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3962520"/>
            <a:ext cx="1959480" cy="2212200"/>
            <a:chOff x="6019920" y="3962520"/>
            <a:chExt cx="1959480" cy="2212200"/>
          </a:xfrm>
        </p:grpSpPr>
        <p:graphicFrame>
          <p:nvGraphicFramePr>
            <p:cNvPr id="134" name=""/>
            <p:cNvGraphicFramePr/>
            <p:nvPr/>
          </p:nvGraphicFramePr>
          <p:xfrm>
            <a:off x="6019920" y="3962520"/>
            <a:ext cx="1904760" cy="1865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19920" y="3962520"/>
                      <a:ext cx="1904760" cy="18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"/>
            <p:cNvSpPr/>
            <p:nvPr/>
          </p:nvSpPr>
          <p:spPr>
            <a:xfrm>
              <a:off x="6219720" y="5715000"/>
              <a:ext cx="175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is"/>
                </a:rPr>
                <a:t>партнер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550280" y="1981080"/>
            <a:ext cx="2198520" cy="2745720"/>
            <a:chOff x="7550280" y="1981080"/>
            <a:chExt cx="2198520" cy="2745720"/>
          </a:xfrm>
        </p:grpSpPr>
        <p:graphicFrame>
          <p:nvGraphicFramePr>
            <p:cNvPr id="138" name=""/>
            <p:cNvGraphicFramePr/>
            <p:nvPr/>
          </p:nvGraphicFramePr>
          <p:xfrm>
            <a:off x="8076960" y="1981080"/>
            <a:ext cx="936360" cy="2400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76960" y="1981080"/>
                      <a:ext cx="936360" cy="240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0" name=""/>
            <p:cNvSpPr/>
            <p:nvPr/>
          </p:nvSpPr>
          <p:spPr>
            <a:xfrm>
              <a:off x="7550280" y="4267080"/>
              <a:ext cx="219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is"/>
                </a:rPr>
                <a:t>поставщи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662920" y="1219320"/>
            <a:ext cx="4509000" cy="2059920"/>
            <a:chOff x="2662920" y="1219320"/>
            <a:chExt cx="4509000" cy="2059920"/>
          </a:xfrm>
        </p:grpSpPr>
        <p:graphicFrame>
          <p:nvGraphicFramePr>
            <p:cNvPr id="142" name=""/>
            <p:cNvGraphicFramePr/>
            <p:nvPr/>
          </p:nvGraphicFramePr>
          <p:xfrm>
            <a:off x="3733920" y="1219320"/>
            <a:ext cx="2514600" cy="1581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733920" y="1219320"/>
                      <a:ext cx="2514600" cy="15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"/>
            <p:cNvSpPr/>
            <p:nvPr/>
          </p:nvSpPr>
          <p:spPr>
            <a:xfrm>
              <a:off x="2662920" y="2819520"/>
              <a:ext cx="450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is"/>
                </a:rPr>
                <a:t>руководство и сотрудни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880" y="1752480"/>
            <a:ext cx="1795680" cy="3340080"/>
            <a:chOff x="380880" y="1752480"/>
            <a:chExt cx="1795680" cy="3340080"/>
          </a:xfrm>
        </p:grpSpPr>
        <p:graphicFrame>
          <p:nvGraphicFramePr>
            <p:cNvPr id="146" name=""/>
            <p:cNvGraphicFramePr/>
            <p:nvPr/>
          </p:nvGraphicFramePr>
          <p:xfrm>
            <a:off x="1066680" y="1752480"/>
            <a:ext cx="754200" cy="2590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066680" y="1752480"/>
                      <a:ext cx="754200" cy="25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" name=""/>
            <p:cNvSpPr/>
            <p:nvPr/>
          </p:nvSpPr>
          <p:spPr>
            <a:xfrm>
              <a:off x="380880" y="4267080"/>
              <a:ext cx="179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is"/>
                </a:rPr>
                <a:t>заказчи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8581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УПРАВЛЕНИЕ</a:t>
            </a:r>
            <a:r>
              <a:rPr b="1" lang="en-US" sz="4800" spc="-1" strike="noStrike">
                <a:solidFill>
                  <a:srgbClr val="ffffff"/>
                </a:solidFill>
                <a:latin typeface="Futuri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КОРПОРАТИВНЫМИ ЗНАНИЯМИ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649584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во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библиографические справ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но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метод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регла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аналитические обз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848720" y="1600200"/>
          <a:ext cx="1511280" cy="32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600200"/>
                    <a:ext cx="1511280" cy="32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9220320" y="624852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3160" y="5029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Futuris"/>
              </a:rPr>
              <a:t>ТЕХНОЛОГИЯ УПРАВЛЕНИЯ ЗНА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Futuris"/>
              </a:rPr>
              <a:t>Knowledge</a:t>
            </a:r>
            <a:r>
              <a:rPr b="1" lang="ru-RU" sz="3600" spc="-1" strike="noStrike">
                <a:solidFill>
                  <a:srgbClr val="ff3300"/>
                </a:solidFill>
                <a:latin typeface="Futuri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Futuris"/>
              </a:rPr>
              <a:t>Management </a:t>
            </a:r>
            <a:r>
              <a:rPr b="1" lang="ru-RU" sz="3600" spc="-1" strike="noStrike">
                <a:solidFill>
                  <a:srgbClr val="ff3300"/>
                </a:solidFill>
                <a:latin typeface="Futuris"/>
              </a:rPr>
              <a:t>–</a:t>
            </a:r>
            <a:r>
              <a:rPr b="1" lang="en-US" sz="3600" spc="-1" strike="noStrike">
                <a:solidFill>
                  <a:srgbClr val="ff3300"/>
                </a:solidFill>
                <a:latin typeface="Futuris"/>
              </a:rPr>
              <a:t> 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uturis"/>
              </a:rPr>
              <a:t>ОПТИМИЗАЦИЯ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Futuris"/>
              </a:rPr>
              <a:t>ПРОЦЕССА УПРАВЛЕНИЯ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5791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НТЕГРАЦИЯ ПОРТАЛА С ДРУГ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КОМПОНЕНТАМИ ИС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финансово-учетными систе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сбытовыми програм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хранилищами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системами электронного документообо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8153280" y="1600200"/>
          <a:ext cx="115416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1600200"/>
                    <a:ext cx="115416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9296280" y="624852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676520" y="4038480"/>
            <a:ext cx="670536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ТКРЫВАЕТ НОВЫЕ ВОЗМОЖНОСТИ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анализа делов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сегментирования ры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позиционирования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прогнозирования и планирования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952524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ОПТИМИЗАЦИЯ ИНВЕСТИЦИЙ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В ИНФОРМАЦИОННЫЕ РЕСУРСЫ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экономия на клиентских лиценз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снижение требований к рабочим станц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экономия на обучении пользов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повышение информационной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централизованное администрирование рабочих ста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определение востребованности информационных ресур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934320" y="1752480"/>
          <a:ext cx="2514600" cy="24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752480"/>
                    <a:ext cx="251460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9296280" y="624852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28600" y="6248520"/>
          <a:ext cx="2819520" cy="4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248520"/>
                    <a:ext cx="28195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7T18:13:00Z</dcterms:created>
  <dc:creator>Виктор Шишляев</dc:creator>
  <dc:description/>
  <dc:language>en-US</dc:language>
  <cp:lastModifiedBy>В.В. Шишляев</cp:lastModifiedBy>
  <cp:lastPrinted>2002-12-01T16:20:33Z</cp:lastPrinted>
  <dcterms:modified xsi:type="dcterms:W3CDTF">2002-12-10T14:52:36Z</dcterms:modified>
  <cp:revision>309</cp:revision>
  <dc:subject/>
  <dc:title>ОСНОВНЫЕ НАПРАВЛЕНИЯ ДЕЯТЕЛЬНОСТИ АО ГЕЛИКОН ПРО</dc:title>
</cp:coreProperties>
</file>